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F63-AEAB-4705-8B8C-65978A74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90A-A892-4AD8-A0EB-BB4DDC8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43E-2F37-417D-A13F-2245BD5A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1D8-1B83-4CFE-9E0D-3B06C60D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709C-0DE3-45A9-9E5A-3DB929A9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7C12-314A-4332-971E-44728102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FE24-5191-4E62-8211-697C3332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4342-ED0F-46B7-B25D-57258DA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FCF-D2B6-4219-B1F1-3DCA4851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6F21-A1B0-4BE5-8291-C3A1089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F676-4FA2-4C44-B45D-EAFF9213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F6F-FD3D-4A98-8980-A6C38585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BD1E-9F43-401F-8E70-FE95587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EED-7812-47CC-AC0B-41B5E02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AB1F-3B69-43DF-9FAD-9A145337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D900-ABE0-4A9E-93CB-017F9493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0B0D-3620-459C-AEB7-DA9A3F96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D80-B21E-4FBF-B793-870A3CD3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26D-E938-40AF-876E-009E730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75F-BD3B-455D-9A93-761DD73C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8F0-41AA-47D6-97B3-1F76210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2F8-6F8E-4FA4-9DE1-D10DA2E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FE4-DAEC-463F-AD01-7E7DBBA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195-8E74-4B6B-B7AF-801A4ED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7EF-7950-40DB-AE76-592DF6F75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BB6-75B0-45EE-9407-B40BD541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alkboard"/>
              </a:rPr>
              <a:t>Arrow Pene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an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you’re a big game hunter and use a bow this may be helpful. When you are at a proshop like Cabalas, Bass pro ,or Heartland and need to buy arrows but don’t know what vane size to buy? I’m here to make this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d Head Carbon Fury 4560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rrows with 2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after market Realtree Blaz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rrows with 4’’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st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ap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d and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Proced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asure 20y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ck an arrow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d 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  then repeat 2 mor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 for each shot the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ean and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47920" y="2666880"/>
          <a:ext cx="7010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666880"/>
                    <a:ext cx="7010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 conclusion the 2’’ penetrated more. Even though it was 0.06 off it was still more. But I say they are a tie. Cause they could have hit a soft spot on the tar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ossible Causes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gle of pene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ot hit on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an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ame Bow and Ar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42:02Z</dcterms:created>
  <dc:creator>STERLING  USD376</dc:creator>
  <dc:description/>
  <dc:language>en-US</dc:language>
  <cp:lastModifiedBy>USD376</cp:lastModifiedBy>
  <dcterms:modified xsi:type="dcterms:W3CDTF">2010-02-11T16:03:15Z</dcterms:modified>
  <cp:revision>4</cp:revision>
  <dc:subject/>
  <dc:title>Arrow Penetration</dc:title>
</cp:coreProperties>
</file>